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049-0A10-4B6D-A6D9-66C6918B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F82-9435-4D88-BE25-DE72BA63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F2AE1-ED3F-4B20-A213-50A24E8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D90FF-74C7-4841-98C1-4CA13457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992EC-BE89-4076-884E-F8408497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1FBA2-F523-4183-B32C-72B5BAB7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F1818-731F-412A-9BDF-CA21BE01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AD2CE-7960-43A5-82A2-8C4BADC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43960-8E92-42AB-B8E6-C85916EF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F1D07-9944-42F1-A916-17565DB7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263D2-D686-46EA-BE60-A85DAFF9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1F156-9A54-4FB4-B2AE-4C5F6C71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669-DC6A-4BFF-8866-17650BFE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47FEC-1A60-49C2-93C4-F22B2297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81F42-A2B4-4A67-AD85-D616DCE8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90FE4-86A2-4865-86CD-954B9D6F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D263A-F2AE-4C71-B16F-AE00AAB6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3836C-33A8-4974-9EF3-76EB6CBB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72604-2549-46D2-B9C7-8DD99FED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0663D-04B5-4465-B495-93CF2C26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4C882-EEC1-428A-92C9-CFF1EDF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CEBAA-E1F3-4B81-8D38-84F5F89B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EC112-82A3-41FF-BC2B-BF12DFC6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ED3-72C3-4A55-9D11-EE8FEB04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36781-F223-433A-B62A-3D33DAB0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166EE-DDF8-4F59-A1C9-BD15299C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65A15-ADE5-4F4D-A535-750A3B0B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89BA5-00C6-4E22-AAE2-C6973A2E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B6AFC-7ED3-4061-B972-AEEB867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0CFA5-983B-4869-97BF-A644B544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8C7F5-2579-45FE-9D29-69BD166E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46C21-0D89-46EA-91A5-657DF943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3DFC0-1BFC-4C44-A548-16E7F99D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4005D-0688-4742-BC60-11AEE4D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8F3A-9148-47AA-A304-2421C62C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05762-5A7C-4EB4-B03C-BB2CC095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8C484-23E8-42C6-A473-8FD87BAD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D7B07-1419-474B-8CA4-2DA5ACF3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C2EAD-B274-4E34-8A66-04FEE93B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553B7-7C04-4075-B572-C7130B58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3514C-EF12-4BCF-83F7-1A3C3466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7F5BA-25A0-4381-BD1D-8D3E1741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C1B78-EFE4-4E32-B494-C7CE221B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14827-9B1B-47AC-8427-B86EB401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92762-8425-4FD6-AD1E-91CE240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574D-F01A-463E-AC91-6A5CEC6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2497A-1E54-40DF-9286-248F563F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B72B4-E9EF-4139-9BDD-73E323FE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F61C4-AC54-4972-A2B2-D1B27054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10590-06FA-4A3D-87DF-A0E38445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791DF-971C-41B4-9208-90DB0E38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3E975-35E5-458C-AA03-B20B5B39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B96CD-8244-4F44-9D05-ABC7DD2C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C2CD2-57CB-4FFD-815B-5AA83DCA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B29BE-2BC4-4F44-86F2-AA3A9355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1028A-CE61-4196-B5C7-6F0F3B1B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09C5-7DD1-448E-8ACE-3C0ECA80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AC159-2FCB-466F-9A2F-A0E37CAD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4FBBC-C270-4E1D-AA90-E9CF2A1E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8E574-9ABE-440E-A95C-CD68300F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0EA84-29A0-4F8F-B130-7E5A0D2D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00DF7-9978-431B-A8CD-823C44C4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C083E-9819-4060-87FC-A557DDED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065E1-330C-4A7E-84B9-22B490D6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A18B8-5B3F-4EA6-862C-0C07F10B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7B211-7B31-4F36-AA28-FE1FF93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AB246-CEFB-43AD-A837-179869E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3FFB-E984-4A17-840A-3CA80080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606B2-E326-4D69-A90F-2C31E149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2393D-80DA-4EEB-848D-5564A7C7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36901-1738-4635-A6A6-6442B344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270BE-5914-4E84-B7D5-E211988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D498E-88AD-4D03-9F15-E3C60E7C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997D4-2E15-467F-9F50-C09A9FF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210A9-49C3-4CA2-96FB-5E6B5434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47B5E-4F24-4BD3-BA06-6A7EE26C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E12F6-630C-46FE-826D-C6FF07ED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2546E-1E62-42AA-BF3E-223DE2CA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A515-FD5B-4B8E-9EAA-08FD99A2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710D4-ABB4-4280-ACBD-F2D1BFAC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DC1D8F-F542-4E5E-8891-BD22071B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E3499-E30F-4700-958D-C6C7DABB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9B393-D113-45DB-BA79-DD954922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2D18B-41FE-427B-B28E-75E89C94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909C1-1638-4C30-8FE2-DB2DC61A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DAA50-62FD-4549-85E1-C526828F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B4C5F-5E1C-4380-9725-525FBE14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5093A-5E71-4F5C-8FA4-E679C158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2B669-D1DB-4945-AE71-00588CBF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60E9-BD57-4C5F-AC93-77E6411F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2A979-A12C-4080-A174-0F4B5BD3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5BDEDC-D6B1-4E44-8CDD-FEED879E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3C3D7-8934-4FFF-B8F6-98BC8C30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F658E-8083-44D1-B4D4-5E0FC559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E8A90-D6FE-4B26-81CA-4765FAE6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10602-CE01-4242-A653-EE194F60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B9FFF-AA5A-412A-9DE1-D9C671E6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EE212-777E-443E-98ED-DD70BCA7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710C0-8909-4DEE-93CD-9DC8CF33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CD860-E76A-41A4-B6FE-1497C50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F2D1-363E-4C1E-BFD7-127B6C3E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A9978-4FB9-47B3-97AE-AD18B965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F37F6-D53D-46CE-9C0A-9A897BAF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7DBED-BE95-4436-A890-07F35A9B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543E9-1182-4C1D-838B-803827E8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68039-270B-4559-A663-E7342E77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B39B6-8D90-4D8C-A87A-BB7BE0F1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5E259-FA35-4B23-8218-6B1276F9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75502-6E7D-4DD9-A9EC-0432A40D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F5796-955A-473E-8CB9-D6A5ECA8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4AF31-CEB2-4491-BCB9-74CD0F26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962-75BD-48F0-9EA8-6A6A3532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EC9E-F7DE-475F-B078-B1ECDA6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BE3D9-6FB1-4F0D-BAE8-4F2CF8D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F98CD-79BF-44F1-8D67-FCE7623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A43F6-3B34-4758-BF26-8AAA7793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496E9-FA31-418D-87DD-CB7E6FB0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20945-8E30-455C-B883-124B358E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C9D1DB-1112-41B4-BD88-C171CF32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116D0F-BF12-4635-82CA-9593D274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9CCC6-36D6-4055-A5C6-E477B49F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0DA60-C896-4C50-85BE-CCF8BE54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BC467-ED26-45F3-A2C2-BF71BB6B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33F8-5EFE-4B94-82FE-FD87134A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2A19C-FF7B-45D1-8CFE-6587FFA4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4778AB-64CF-43CD-9B4E-0EF2FF1F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38DCC-AE3F-4D1C-BA76-2BC6F171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E5B29-A4F8-4F40-B8B5-BF4D57FB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DF542-335E-4443-BF26-88EDF619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F7A67-9A12-4D5E-A5AF-083778BB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8D449-A34B-40C6-AA31-1306EE48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AAF6E-531F-4FB6-8415-37E00648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B9848-066B-4DC1-8498-67B66C96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97864-3BD0-40F7-8E82-BCFE60FC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1473-D9B6-428F-963B-4703C53D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EB216-DC56-4A7A-8A85-6FB04602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6BF60-7DF5-403D-8EBF-9A79981F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71A79-1CE2-45B8-BCC5-73CB171D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6DBD5-0002-4C39-9734-0C60F9A9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53A0D2-860C-4325-B656-6CB89B22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A4BA8-36C1-4ED6-923A-211DFD39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884575-BBDD-4C5D-BD90-D91FFBA3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F2B7C-2719-4EBF-AC24-11B45A25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6B91E3-EC78-47C1-B759-5D268B98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1A2C21-65DE-434A-B515-05F49671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A749-FCEE-4FA6-B3DC-E65AAF84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E3D0F-25BB-4386-97FF-36532B77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0EDB2-E845-42B7-A6E8-025325FF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6FF0A3-AB65-41B7-819D-7E52415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89844-9C62-41BF-9EC4-41F9B3DD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8DD75-BB7F-4A42-A3E1-C154D0B8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418DDD-AC30-47EC-A85A-372F87C4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9A1A0-AC8E-471F-959B-05328AE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EAC8B-408C-42FB-86F8-69045BF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0DD1C1-C610-4B44-996A-97A0965C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5657B6-3FFA-4CA5-BB4B-4C8A73FD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0F57-74B3-4D2E-8D32-04E2F2F0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FB430-FEE7-46FC-9696-5EF745FB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4339F-9157-4D8D-9485-5D2E6EFB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8B7DF8-9800-4926-9E8E-952DF522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E33230-9385-4CFC-A4C9-67856DC4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2091F3-8213-4679-89D3-D09F2C86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DA145-7AD2-4453-BE8E-E2EF8B39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6D5E2-D75C-4EE6-8171-6DD8840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3ECFE9-7478-4528-9607-E736DA2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2909B-A941-4183-8097-8BF3CC9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21FB4-B0FF-4058-ACB7-4C0479E5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C846-6C21-4FE4-B006-4545A203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5ED3B-9D83-43A1-9F30-CF82AAE5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E4F3F7-EEB6-4584-A51A-EAFBC23C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1AE5A0-1C58-45B6-8192-AAC7BF5D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154DB8-F793-420B-8B94-01D4D01C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E1E224-9FC4-4D40-B992-E97BF5A0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8512EC-116D-4312-8ADB-432C4BCA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18E6BD-49B0-4253-98F5-5B008148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3B0957-A349-42A0-8836-AA55B994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BBDC23-F87C-481D-8454-47DBDBB5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0776B4-655E-4B54-BD5E-C7A75B88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6B53-DE7F-4B19-BD4B-B2C4EBA1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8C7064-E57C-41CE-8167-2B31EB9E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6EEB3-65F7-46D0-9170-185AEBE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A70538-0D5E-4DA5-9E2D-1DB20708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0B181-78C6-4C07-A895-B65E54BD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192829-2E1B-4C91-9CCF-01087000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FFD2-B29A-4C8B-B805-A62051D3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D880-02BF-4327-957A-67DC86F2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DCE5-E862-4D66-A650-5B9B5370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CA9-8FFF-4931-8F9D-01E95A9D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D01B-15BD-4C6F-8071-F418F079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0B75-773C-4A65-BF04-3C95F58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2F22-0E72-47F0-9737-D5C79FC8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6ABC-F653-4D04-A668-6EEB8413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4DFA-FE74-4440-A800-A6BE277A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5B40-F5E3-404C-93DE-8529CF2E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4C77-01E5-4E4E-9180-A6D82B72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38FA4-B89D-49A4-94E0-3BD1910D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A869-8016-47C2-B328-956AD0B3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AF1D-45C2-4268-A7CF-A6088188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DC8-6CAE-4BE6-96D2-EE2A5D85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7B54-9A36-434F-8C23-3F789268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1C91-7EDE-4CD8-80D4-74A8644E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EB15-73A1-4012-9CD7-CEEB884C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F104-8856-4B46-B8EF-EB66A7A8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1EC5B-94A8-4E14-8ED4-9E530C5E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4EA3-04E6-460F-A45A-A70DA99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FD6BF-017C-4DEB-B292-1BBCA28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E71F-9D6A-4C8B-A4C4-B7D0723B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72CA1-F171-4F74-B10E-09595946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9ADE4-635B-44D9-B277-4CDD47CA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455-9B4D-4706-AA2C-3562821C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2FDA7-94E3-4A66-84A5-306D322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10930-EFCB-465A-849A-163C7DE1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B70B2-52D1-46D2-B15E-856396D6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28181-7917-425B-8A48-4FFF2BF6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9448-B84B-4658-BB89-735F70A5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78F9E-CBFD-46CB-92C9-0E6BD69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8D854-AB3C-4BFD-A60F-C20EE5D5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C022C-144C-4F76-BAAE-9572FA31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E727-C9C8-49E1-8395-AB64420A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B026E-1824-4ABC-8503-B884E050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570D-9C70-4387-832A-CBF8290A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30507-CDD8-458D-89C6-3465B854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BEAFE-52C9-4194-8ECB-4C613B84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F4F2B-298C-490D-8E1D-7FB6672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03CD9-2A81-42F9-B7D9-689E3624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EC795-7288-4ADC-A733-37B811D2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C6240-18D0-45F8-B5E5-E00E28B5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46024-571B-4532-A7C8-C1E7195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55DD9-864C-45E4-AA9F-4B52F37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BEBE4-5968-4D53-BC36-1D0598E6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D60B0-DBFB-48FB-85A8-AEC6C5A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F6A-FB54-4142-8D92-17C92CC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A6996-2D67-4526-9057-7D894C4A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F0F1B-0B61-435F-9583-FDBDF4A8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B2AA2-B36F-458F-ABB3-3E297EF3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19C0-D594-460A-A96C-F8357C4F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02D9-9C77-40A6-8B0F-DF012094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49F7-5EB2-4AF9-9988-7FA1052B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09C30-879B-4349-B49B-2632B681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02F13-048C-44EE-AB0F-1698557E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735F3-D2C9-4414-AFB8-BD7F8444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0B769-8031-4438-9216-9D8096A8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3D2-7122-4B61-B380-927FEACD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ECDF-4CD5-422D-9DA3-2B095D0A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29213-71D4-4E49-B5BA-C6599F6A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15E0-B83A-45E7-A854-63387254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598A4-AA0B-479A-9544-AF250170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F6EEB-4BB3-47F5-8D3E-8F3D7755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5E84-53C0-4746-B84C-686DD0F9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C1AE0-69F3-463D-9BFB-875E751F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6DF1A-B7D5-47A8-8483-6517678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7A05-965B-43A0-9D41-64689DA0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B83C0-7BAB-4194-99B4-97A01B30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6DF-C7E6-4727-B4A4-2BFFF47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F43CA-6DCE-4414-A0C1-EEB4DE0E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2CA08-998C-4425-B8F3-20F9486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5015-B29C-45E0-B447-8677C39F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95FDD-9941-416D-830A-7229933A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46DAC-EE3E-42CE-8D47-9F88DE3B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00EA9-C1E1-454B-BE11-EFDF665C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3C218-DF09-47CD-9CF4-0AD94305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C273D-270C-4C26-9A00-06105C8F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E55DA-8BED-416C-A134-0297A1E3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D6E07-2667-4AB5-A18A-D6E7BEE8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3B1C-8C32-4089-98D0-328EAE2CBC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572C-6A30-4091-A106-9979B539F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78F6-5584-47FE-B010-A896AC1888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4AC1-BD98-4A00-A6A4-0FA8C3C22C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9CF7-9780-4EBD-A951-C5507E90FA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A26D-310A-4026-A12A-A1A9E76F5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B41-307B-4EA1-B08F-EF179DC5B0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9347-7B9F-4C58-BB3F-E72AE8FEA9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0674-F292-453F-9C49-FAAAD42B2E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9B6B-B901-46B2-BF83-CBF06D46B7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C8D0-D8C6-45D9-B88B-438D784276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611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618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619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641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642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664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671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672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675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678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84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4987-AA39-4DF9-A227-C576CBFBA7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5BFF-C292-410A-8450-D2EFECBFBC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C16E-B532-45A5-B62F-730571FD14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D902-BF93-4590-B7F1-0E8459CF7A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620D-861E-426B-9987-D98ACAD736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AD78-DDF2-4CC1-9DB0-8612216EBE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6CB1-9CC4-442A-BCC1-8DD3245AF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FB58-C800-4F47-91F5-507EA5D17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4CC0-1385-4D39-B583-A857306037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73C9-FE2E-4B88-B555-247A212F7A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FE9C-508E-411A-9467-CA9B5118B3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911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AAA0-C6F8-498F-BD57-6F4273E161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898F-CF08-4D7A-BA44-B5EFB23DCE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BBCA-C100-40E0-A902-09755B374C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A0C1-F411-41F6-99B7-5BB880F3BB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CEC7-CACC-4F2B-B027-9F0C34474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ED33-DF9C-49D3-9BBB-97327B3CE7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0056-0E32-4F10-8FF9-3CE1F3BD3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D1C5-36D5-4C74-98B2-A37B9892E0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7F27-C153-4886-B63A-ABA7A63310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318B-845A-4A84-9542-84FD96F094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0B61-1C80-4B44-BE86-AF0F8FF312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98E-66EB-4A5F-8397-2FBC473A1D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1621-3C2C-4B12-9BFA-5B7A9AC8F3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3568-9DAA-40C3-9C42-5D4AF98831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CCDA-162B-4AA0-9C65-EBD7409FA4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97B7-1593-4B02-8B0D-E03A4A7CDF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528B-8948-4FC8-ACEA-DD190D258C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6A6B-1899-4199-8F80-E0779F302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QQ图片20200801083024"/>
          <p:cNvPicPr/>
          <p:nvPr/>
        </p:nvPicPr>
        <p:blipFill>
          <a:blip r:embed="rId1"/>
          <a:stretch/>
        </p:blipFill>
        <p:spPr>
          <a:xfrm>
            <a:off x="0" y="1916280"/>
            <a:ext cx="88837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图片 1" descr=""/>
          <p:cNvPicPr/>
          <p:nvPr/>
        </p:nvPicPr>
        <p:blipFill>
          <a:blip r:embed="rId1"/>
          <a:stretch/>
        </p:blipFill>
        <p:spPr>
          <a:xfrm>
            <a:off x="666720" y="1604880"/>
            <a:ext cx="7810560" cy="36482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2"/>
          <a:stretch/>
        </p:blipFill>
        <p:spPr>
          <a:xfrm>
            <a:off x="7596360" y="342900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3"/>
          <a:stretch/>
        </p:blipFill>
        <p:spPr>
          <a:xfrm>
            <a:off x="7380360" y="450864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14340" descr=""/>
          <p:cNvPicPr/>
          <p:nvPr/>
        </p:nvPicPr>
        <p:blipFill>
          <a:blip r:embed="rId4"/>
          <a:stretch/>
        </p:blipFill>
        <p:spPr>
          <a:xfrm>
            <a:off x="1490760" y="2104920"/>
            <a:ext cx="32194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图片 1" descr=""/>
          <p:cNvPicPr/>
          <p:nvPr/>
        </p:nvPicPr>
        <p:blipFill>
          <a:blip r:embed="rId1"/>
          <a:stretch/>
        </p:blipFill>
        <p:spPr>
          <a:xfrm>
            <a:off x="419040" y="1209600"/>
            <a:ext cx="8305920" cy="44388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6192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图片 1" descr=""/>
          <p:cNvPicPr/>
          <p:nvPr/>
        </p:nvPicPr>
        <p:blipFill>
          <a:blip r:embed="rId1"/>
          <a:stretch/>
        </p:blipFill>
        <p:spPr>
          <a:xfrm>
            <a:off x="233280" y="1112760"/>
            <a:ext cx="8677440" cy="240048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2" descr=""/>
          <p:cNvPicPr/>
          <p:nvPr/>
        </p:nvPicPr>
        <p:blipFill>
          <a:blip r:embed="rId2"/>
          <a:stretch/>
        </p:blipFill>
        <p:spPr>
          <a:xfrm>
            <a:off x="243000" y="3792600"/>
            <a:ext cx="8667720" cy="17431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3"/>
          <a:stretch/>
        </p:blipFill>
        <p:spPr>
          <a:xfrm>
            <a:off x="539640" y="3068640"/>
            <a:ext cx="2160720" cy="3189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5545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85680" y="706320"/>
            <a:ext cx="8972640" cy="58867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278604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637236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5148360" y="3500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6659640" y="3500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5364000" y="4076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5940360" y="4581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4211640" y="5157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8317080" y="5157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6372360" y="57340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6732720" y="630864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204840" y="2633760"/>
            <a:ext cx="8734320" cy="1590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327672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579600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8244000" y="321300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4680" y="1886040"/>
            <a:ext cx="9134640" cy="30859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8317080" y="2421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8317080" y="2924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8317080" y="3500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8317080" y="4005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8317080" y="458136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85680" y="824040"/>
            <a:ext cx="8972640" cy="52099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3981600" y="2162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3635280" y="299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745164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971640" y="515772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39600" y="750960"/>
            <a:ext cx="9069480" cy="58071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6012000" y="1628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7667640" y="157176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1908000" y="1989000"/>
            <a:ext cx="649440" cy="3193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7"/>
          <a:stretch/>
        </p:blipFill>
        <p:spPr>
          <a:xfrm>
            <a:off x="3751200" y="201780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8"/>
          <a:stretch/>
        </p:blipFill>
        <p:spPr>
          <a:xfrm>
            <a:off x="5651640" y="1989000"/>
            <a:ext cx="649080" cy="3193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9"/>
          <a:stretch/>
        </p:blipFill>
        <p:spPr>
          <a:xfrm>
            <a:off x="8244000" y="200340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10"/>
          <a:stretch/>
        </p:blipFill>
        <p:spPr>
          <a:xfrm>
            <a:off x="611280" y="3716280"/>
            <a:ext cx="1296720" cy="18003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11"/>
          <a:stretch/>
        </p:blipFill>
        <p:spPr>
          <a:xfrm>
            <a:off x="1863720" y="2881440"/>
            <a:ext cx="836640" cy="318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12"/>
          <a:stretch/>
        </p:blipFill>
        <p:spPr>
          <a:xfrm>
            <a:off x="2987640" y="3645000"/>
            <a:ext cx="2089080" cy="29527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13"/>
          <a:stretch/>
        </p:blipFill>
        <p:spPr>
          <a:xfrm>
            <a:off x="4240080" y="2838600"/>
            <a:ext cx="836640" cy="3189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14"/>
          <a:stretch/>
        </p:blipFill>
        <p:spPr>
          <a:xfrm>
            <a:off x="5435640" y="3659040"/>
            <a:ext cx="3529080" cy="25066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15"/>
          <a:stretch/>
        </p:blipFill>
        <p:spPr>
          <a:xfrm>
            <a:off x="6978600" y="2852640"/>
            <a:ext cx="8366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685800" y="2538360"/>
            <a:ext cx="7772400" cy="1781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1224000" cy="3189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1224000" cy="3193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3276720" y="3429000"/>
            <a:ext cx="1942920" cy="3189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5"/>
          <a:stretch/>
        </p:blipFill>
        <p:spPr>
          <a:xfrm>
            <a:off x="3276720" y="3860640"/>
            <a:ext cx="1942920" cy="3193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6"/>
          <a:stretch/>
        </p:blipFill>
        <p:spPr>
          <a:xfrm>
            <a:off x="6156360" y="3429000"/>
            <a:ext cx="2232000" cy="3189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7"/>
          <a:stretch/>
        </p:blipFill>
        <p:spPr>
          <a:xfrm>
            <a:off x="6156360" y="3860640"/>
            <a:ext cx="2232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图片 1" descr=""/>
          <p:cNvPicPr/>
          <p:nvPr/>
        </p:nvPicPr>
        <p:blipFill>
          <a:blip r:embed="rId1"/>
          <a:stretch/>
        </p:blipFill>
        <p:spPr>
          <a:xfrm>
            <a:off x="666720" y="1157400"/>
            <a:ext cx="7810560" cy="45432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2"/>
          <a:stretch/>
        </p:blipFill>
        <p:spPr>
          <a:xfrm>
            <a:off x="3592440" y="2090880"/>
            <a:ext cx="863640" cy="31669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3"/>
          <a:stretch/>
        </p:blipFill>
        <p:spPr>
          <a:xfrm>
            <a:off x="6286680" y="2233440"/>
            <a:ext cx="7473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447840" y="1147680"/>
            <a:ext cx="8248320" cy="45626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2"/>
          <a:stretch/>
        </p:blipFill>
        <p:spPr>
          <a:xfrm>
            <a:off x="1042920" y="5300640"/>
            <a:ext cx="1513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0:31:5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